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406981"/>
        <c:axId val="49108142"/>
      </c:barChart>
      <c:catAx>
        <c:axId val="864069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08142"/>
        <c:crosses val="autoZero"/>
        <c:auto val="1"/>
        <c:lblAlgn val="ctr"/>
        <c:lblOffset val="100"/>
        <c:noMultiLvlLbl val="0"/>
      </c:catAx>
      <c:valAx>
        <c:axId val="491081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069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C689-0152-4D32-B24E-FC3E9C1CE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D678-AC98-41C7-B102-88A6A716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31D1-0862-42FC-8792-178EE9783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6AA2-9DC8-4A43-AA76-FC12031D1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7A3F-0F98-4466-B876-5B91CA74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F660-05ED-4241-A9E7-FE7270EC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316E-9114-4354-9E83-10A5B823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3362-29EE-4073-948C-29EAC85C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3C1E-A4DB-432C-AE10-42248E09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A4B6-711B-4B7D-A5B7-6A6331A6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49E7-7CD1-43F3-8AEB-C280A6D1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E3D0-3661-44DC-8B80-2DD68342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A8876C-EE3F-48B7-8093-603D41DE47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