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732254"/>
        <c:axId val="33839167"/>
      </c:barChart>
      <c:catAx>
        <c:axId val="317322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39167"/>
        <c:crosses val="autoZero"/>
        <c:auto val="1"/>
        <c:lblAlgn val="ctr"/>
        <c:lblOffset val="100"/>
        <c:noMultiLvlLbl val="0"/>
      </c:catAx>
      <c:valAx>
        <c:axId val="33839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322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9CE-09BA-4BD2-91FE-3B966BFF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4D76-6484-4BEF-A73E-1A19167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F830-1F56-4063-9790-E8E7B933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4F72-C55E-4CDD-921C-B688099B8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3C0D-710A-4B02-980B-78E34B83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45B-DF62-4157-A849-D1AFCE80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5A5-12C2-4D28-A0E0-9F9A80B4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3CE-06E1-43EE-951A-07C6CD4A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C3C-3AF5-4724-B845-779A43F4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406-3596-44E7-91C1-83FBFBC6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62F-E99C-45F8-B1E6-9BF307A4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7D51-5B52-4451-ABCD-182EA1F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3FFFE-919B-4CF9-9510-012BAEEC55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