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79402"/>
        <c:axId val="13300538"/>
      </c:barChart>
      <c:catAx>
        <c:axId val="90079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00538"/>
        <c:crosses val="autoZero"/>
        <c:auto val="1"/>
        <c:lblAlgn val="ctr"/>
        <c:lblOffset val="100"/>
        <c:noMultiLvlLbl val="0"/>
      </c:catAx>
      <c:valAx>
        <c:axId val="13300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79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D8C-80A5-436F-8E78-CFDCFB46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1F6-B01A-40D3-B3CE-3DAC625A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4E9-3CD1-4FB3-B979-270B53F9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CC3-583C-4C21-8F7F-E922B340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F09-C9E5-4EB3-B2C5-84B0390A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354-C86D-49DE-946C-AE66F3C6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E2E-4598-4548-AE77-CA82D223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AC6-6AC8-4B2B-AD06-4A3F9868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9CC-A5AC-482D-B662-1F4AFD4D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6E9-632C-420F-81A6-09802EAD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624-027B-4631-A3CA-76DF843E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53E-3396-48E1-BFE8-AEEF2EC2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D5553-D26B-4FA2-AC15-076FA4839B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